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973-C8E6-48E1-949E-73C29234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3F0-8C9C-4A9C-B025-CCA46709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851-C9C2-43C6-B6B5-D1F9C08A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C46-D245-484B-9DBD-1063609C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F055-A4E2-4847-9C10-B6D6E24E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7978-B73B-4AB9-83B8-440AC3F7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E39C-E2E1-4F4D-8702-580B3AC7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89AF-4596-40F8-A6A3-0A19256F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EEBF-073E-4555-930F-499EB087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4D5B-9788-4D6A-A46A-739C0B60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50DB-586E-4727-BEDC-88D63199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434-2C38-4101-9568-62B78BA6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CC8E-F2D2-4B13-AE7C-9C05E845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4F9D-800F-4702-BBB0-BCD1B926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BEE5-4D69-4863-AF53-07F1CA87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3011-6284-42BF-9A13-9323AF8C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D7D6-0E9A-4A2E-8468-123C9F26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2AB69-9134-46C5-B406-4C527524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98EE3-A5B6-46DB-AA73-8353E27C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95A28-40F8-453F-B24B-AC30904F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38437-3EA1-4E58-818B-9907BA15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471D5-F9C4-46B6-9695-4E032CCE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B2E-31E3-4A89-ACA7-04CC37A9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CBF63-84A3-45F9-9DE4-5E8DFD7F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39752-EC6E-4D95-B036-7E1614E3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5D574-682C-42B7-8E17-83F8BEFA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45B52-5868-4FD4-8CE3-35B0A788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DCE1E-78FE-4A06-84D0-73F7017B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EF309-7CBE-45E1-97CE-2313CB6F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72FFC-4679-4795-B133-F96C2A1A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EA7AB-39CC-42D0-878D-9F87E224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7FB4D-7108-4B95-99B9-22EFBFC3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97385-66C7-4BC9-B06E-05A25CAC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29C-0721-44D8-85FB-46F1AD3B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F355E-61BE-44AA-B693-199F9C31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25A5F-C266-4E93-999F-9F560C1A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24D5-0891-474A-B678-3F965798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5C06F-B6C2-4DBC-B70F-B597903B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95858-9D2F-4086-96CA-8235EB54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B1FA1-2DF1-40B5-B567-970245BA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BA668-EDFA-4883-8771-5017EE98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CBA73-7ED7-4EFD-9796-28600C7C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E691B-7A49-4E72-8CB9-FF15588C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F43F5-E37F-4830-93CF-1B3F8D75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F8D-C4D5-4588-A885-8B75A5A4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1EF66-6AC5-4554-90C1-0EE8CEAF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6387F-B42D-4D88-8FF4-9BBC649E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083B7-38DE-4273-99AB-209D9C0B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6AFE8-993F-40DA-9406-1D32918B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85D58-D9CD-4963-8637-AC16FF81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E2ADB-48B4-426A-B953-3D059CA3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33D04-65C6-43CC-A727-0718E1B8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AC7F8-9C6E-4954-9A9F-3D35D4C3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24C0E-8511-4011-92F2-2DA98C44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87111-1424-435F-B1FB-0AB290E0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17C-ACEA-47F3-B561-0B52A03B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A2CB8-27E6-4E7A-BFA0-3137FC0E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FF9424-5F5C-45FB-9840-8257E5BF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FE0A1-F628-45DB-88F3-444179A0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1C843-4B38-4A8F-B348-211C5063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4D628-9C71-422C-BBC0-7A0E39F3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F4A17-0EC5-4DDA-89A5-CF574905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E1196-01FA-4F11-A7F9-8982F15E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0F2F2-7E33-4249-89BD-E386DC4F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868EF-B91F-4D80-9F08-5D5F524C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98D56E-89B8-498F-BD46-6539CC8B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9E7-7EA3-4829-94D4-EF799317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324DF-C554-4110-9DBA-2D41F47F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20D75-8221-4352-A108-D4DBC42C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9DBE2-D66A-496B-BDC7-D952B4A2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9645B-4A9F-415E-B4F6-91C119A6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95696D-157F-4033-8649-2D8E784E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98E164-FE2E-4AFD-AE2D-291B5382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00AA4-9A8C-4E5B-914F-6D165BDC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F4BED4-2FE5-4062-A74A-6D0D2121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E42E38-A16B-4B0B-B303-7A6CACD5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B938B-8883-4BE9-BF71-F6605136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CB6-59E9-42A6-8385-6C9ED385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1BC96-6792-4DA9-8DF3-E217591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D3BB8-EE44-4D1E-8DCA-01021729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47CB0-7532-4889-A7F8-7BCE5720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D9C7B-BE81-4766-AFFB-88418DB8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97A0F-394D-4D83-A5CD-526EAFB5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8BB-3F01-4A53-B580-4D8FC5A8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D722-40BC-46A1-8572-7F2D4D72D3A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CED9-4D47-4991-8439-A7D0FB5AB1D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EF41-164C-430B-828C-72DCAD25C16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F629-7637-4A2E-A4F0-D8595F37B42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6075-2594-4E90-96EE-09103060B25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0E37-15A8-4405-89F6-00745DDFFFE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3638-8082-4A72-B02B-AF7BC2BEA91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eb.me.com/webphysics/physlets/html/plane%20mirror.html" TargetMode="External"/><Relationship Id="rId2" Type="http://schemas.openxmlformats.org/officeDocument/2006/relationships/hyperlink" Target="http://web.me.com/webphysics/physlets/html/plane%20mirror.html" TargetMode="Externa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THE LAW OF REFL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N THE STUDENT SEE THE IMAGE OF THE POLE IN THE MIRRO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373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NOT possible for the investigator to see the image of the po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light cannot come from the pole, reflect off of the mirror, and reach the student’s ey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ray would not obey the Law of Reflection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3490920" cy="2819520"/>
          </a:xfrm>
          <a:prstGeom prst="rect">
            <a:avLst/>
          </a:prstGeom>
          <a:ln w="0">
            <a:noFill/>
          </a:ln>
        </p:spPr>
      </p:pic>
      <p:cxnSp>
        <p:nvCxnSpPr>
          <p:cNvPr id="377" name="Straight Arrow Connector 5"/>
          <p:cNvCxnSpPr/>
          <p:nvPr/>
        </p:nvCxnSpPr>
        <p:spPr>
          <a:xfrm flipH="1" flipV="1">
            <a:off x="6323760" y="2819160"/>
            <a:ext cx="381960" cy="3052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8" name="Straight Arrow Connector 7"/>
          <p:cNvCxnSpPr/>
          <p:nvPr/>
        </p:nvCxnSpPr>
        <p:spPr>
          <a:xfrm>
            <a:off x="6324480" y="2819160"/>
            <a:ext cx="915120" cy="610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MIRRORS REVERSE EVERYTHING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form a few tests to see what is reversed in a mirror image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did you find ou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YOU KNOW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3581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are 6 ft tall, what is the smallest mirror that you would be able to see yourself in full length view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es it matter how far you stand from the mirro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4324320" y="16765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YOU KNOW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3581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minimum size of the mirror is half the person’s height, or 3 f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light ray must be able to travel from the feet to the mirror, then be reflected to the person’s eye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ray would hit the mirror halfway between the eyes and feet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1681200" cy="2143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5"/>
          <p:cNvSpPr/>
          <p:nvPr/>
        </p:nvSpPr>
        <p:spPr>
          <a:xfrm>
            <a:off x="6553080" y="2438280"/>
            <a:ext cx="76320" cy="1067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Straight Arrow Connector 7"/>
          <p:cNvCxnSpPr>
            <a:endCxn id="387" idx="2"/>
          </p:cNvCxnSpPr>
          <p:nvPr/>
        </p:nvCxnSpPr>
        <p:spPr>
          <a:xfrm flipV="1">
            <a:off x="5181480" y="3504600"/>
            <a:ext cx="1410480" cy="686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9" name="Straight Arrow Connector 9"/>
          <p:cNvCxnSpPr>
            <a:stCxn id="387" idx="2"/>
          </p:cNvCxnSpPr>
          <p:nvPr/>
        </p:nvCxnSpPr>
        <p:spPr>
          <a:xfrm flipH="1" flipV="1">
            <a:off x="4952160" y="2818800"/>
            <a:ext cx="1639080" cy="686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0" name="Straight Arrow Connector 11"/>
          <p:cNvCxnSpPr/>
          <p:nvPr/>
        </p:nvCxnSpPr>
        <p:spPr>
          <a:xfrm flipH="1">
            <a:off x="6931800" y="3506400"/>
            <a:ext cx="3960" cy="762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sp>
        <p:nvSpPr>
          <p:cNvPr id="391" name="TextBox 12"/>
          <p:cNvSpPr/>
          <p:nvPr/>
        </p:nvSpPr>
        <p:spPr>
          <a:xfrm>
            <a:off x="7086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half person’s height above fl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YOU KNOW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es it matter how far you stand from the mirro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!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light ray still hits the mirror halfway between the eyes and feet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681200" cy="2143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6553080" y="4038480"/>
            <a:ext cx="76320" cy="1067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Straight Arrow Connector 7"/>
          <p:cNvCxnSpPr>
            <a:endCxn id="395" idx="2"/>
          </p:cNvCxnSpPr>
          <p:nvPr/>
        </p:nvCxnSpPr>
        <p:spPr>
          <a:xfrm flipV="1">
            <a:off x="1676520" y="5105160"/>
            <a:ext cx="4915440" cy="8388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7" name="Straight Arrow Connector 9"/>
          <p:cNvCxnSpPr>
            <a:stCxn id="395" idx="2"/>
          </p:cNvCxnSpPr>
          <p:nvPr/>
        </p:nvCxnSpPr>
        <p:spPr>
          <a:xfrm flipH="1" flipV="1">
            <a:off x="1447200" y="4495320"/>
            <a:ext cx="5144040" cy="610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8" name="Straight Arrow Connector 11"/>
          <p:cNvCxnSpPr/>
          <p:nvPr/>
        </p:nvCxnSpPr>
        <p:spPr>
          <a:xfrm flipH="1">
            <a:off x="6705360" y="5105520"/>
            <a:ext cx="2160" cy="76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sp>
        <p:nvSpPr>
          <p:cNvPr id="399" name="TextBox 12"/>
          <p:cNvSpPr/>
          <p:nvPr/>
        </p:nvSpPr>
        <p:spPr>
          <a:xfrm>
            <a:off x="6781680" y="457200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half person’s height above fl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CTIVES: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understand how an image is formed by a flat mirr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use ray diagrams to locate the image formed by a flat mirr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use correct terminology to classify images formed by flat mirro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YOU KNOW?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are 6 ft tall, what is the smallest mirror that you would be able to see yourself in full length view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fter this lesson, you should be able to explain the answer to this question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ane – fl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rtual Image – an image that is formed by light rays that do not converge to a point.  Our eyes see the image at the common point that the light rays appear to come fro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gle of incidence – the angle the incident light ray makes with the normal to the mirr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gle of reflection – the angle the reflected light ray makes with the normal to the mirr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LAW OF REFL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259056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Law of Reflection states that the angle of incidence is equal to the angle of reflecti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34653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NIM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Link to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 Physl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MAGES FORMED BY PLANE MIRRORS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e alway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Virtu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prigh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same size as the objec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N THE STUDENT SEE THE IMAGE OF THE POLE IN THE MIRRO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00200"/>
            <a:ext cx="373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the pin and the mirror to test this sce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must be true about the position of the student and the pole for the student to be able to see the pol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34909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N THE STUDENT SEE THE IMAGE OF THE POLE IN THE MIRRO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600200"/>
            <a:ext cx="373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possible for the investigator to see the image of the po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light can come from the pole, reflect off the mirror, and get to the investigator’s ey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light ray obeys the Law of Reflec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3490920" cy="2819520"/>
          </a:xfrm>
          <a:prstGeom prst="rect">
            <a:avLst/>
          </a:prstGeom>
          <a:ln w="0">
            <a:noFill/>
          </a:ln>
        </p:spPr>
      </p:pic>
      <p:cxnSp>
        <p:nvCxnSpPr>
          <p:cNvPr id="372" name="Straight Arrow Connector 5"/>
          <p:cNvCxnSpPr/>
          <p:nvPr/>
        </p:nvCxnSpPr>
        <p:spPr>
          <a:xfrm flipH="1" flipV="1">
            <a:off x="6019200" y="2742840"/>
            <a:ext cx="686520" cy="3816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3" name="Straight Arrow Connector 7"/>
          <p:cNvCxnSpPr/>
          <p:nvPr/>
        </p:nvCxnSpPr>
        <p:spPr>
          <a:xfrm flipH="1">
            <a:off x="5257080" y="2742120"/>
            <a:ext cx="762840" cy="610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3:22:55Z</dcterms:created>
  <dc:creator>Lori</dc:creator>
  <dc:description/>
  <dc:language>en-US</dc:language>
  <cp:lastModifiedBy>Lori Andersen</cp:lastModifiedBy>
  <dcterms:modified xsi:type="dcterms:W3CDTF">2009-10-18T16:36:02Z</dcterms:modified>
  <cp:revision>11</cp:revision>
  <dc:subject/>
  <dc:title>The Law of Reflection</dc:title>
</cp:coreProperties>
</file>